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FC44-4A36-404C-AD01-F9DA35D7B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6535-A784-4E93-9AD4-D6193E33E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14BF-CA88-4F48-A266-A8F5998035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F150-0F69-4058-934E-5C0619590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4ED9-2EA9-408D-B824-78F7CE6C47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DA05-8D7B-46AA-A8A2-5A774EA0FF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717E-E697-427B-ADF2-447863268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8499-DB4D-469A-9B4D-887D35221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7F44-4E01-444B-BE08-BEE2795241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A4EB-A94C-4A74-9A3C-FE619075C9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D7FC-868F-4C47-A8F2-6B27E58D61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1D8E-14BF-455E-A215-26F2405D9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y to prevent neo-colonial prac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004C-7F88-40ED-90B0-B1BCF60D7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our separate studies of particip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rogramming have found that su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ethods often cost less in the long r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nd are consistently more effective 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getting assistance where it needs to g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uch methods were also found to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unmatched in fostering sustainabilit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trengthening local self-help capac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nd in improving the status of wo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nd youth. Finally, by establis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latforms where organizations m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ccess and involve citizens in the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rograms, participatory develop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ethods often extended the reach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raditional development approaches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leveraging local resources with na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nd foreign ass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A24E-3D49-40A7-A325-6359E3F3C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0C90-A401-4819-A3DF-327D7E14C4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AA19-C37F-4675-87A1-8EE2FB31D5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B168-D972-458E-9B21-875EDBAD02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FFB6-7A41-4396-9ABF-C56B59AD8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CFC8-76EB-4263-BB74-D4EC1EE2A5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6869-DDE8-4570-9933-7E34FBAAB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30A6-9936-407D-B2D7-AC46D3E8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AD3B-2A74-41ED-A375-476D9685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F1F8-BD34-4842-9DBE-65B215BB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B55E-C544-4188-8F3B-0260FFB8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CA1D-2A80-462A-A92B-20F9CDFC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5B46-202C-482F-92D6-8E5313C9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4F38-81A1-4FC6-84F2-2D2D0854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4575-9E1C-4D23-93DB-D393B8F1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F8DF-BD31-4A0A-87E7-FC49E457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5A84-272A-435B-8D7F-4AE50A3F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7F03-B084-4737-819A-1385C13A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E3C3-D3ED-4077-A72A-BA9E22A6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8222-C531-4355-A996-239FFF3C5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cxnSp>
        <p:nvCxnSpPr>
          <p:cNvPr id="49" name="Straight Arrow Connector 10"/>
          <p:cNvCxnSpPr/>
          <p:nvPr/>
        </p:nvCxnSpPr>
        <p:spPr>
          <a:xfrm>
            <a:off x="2571480" y="2428920"/>
            <a:ext cx="32151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0" name="Straight Arrow Connector 12"/>
          <p:cNvCxnSpPr/>
          <p:nvPr/>
        </p:nvCxnSpPr>
        <p:spPr>
          <a:xfrm>
            <a:off x="5786280" y="928440"/>
            <a:ext cx="92952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1" name="Straight Arrow Connector 14"/>
          <p:cNvCxnSpPr/>
          <p:nvPr/>
        </p:nvCxnSpPr>
        <p:spPr>
          <a:xfrm flipV="1">
            <a:off x="1213920" y="1071360"/>
            <a:ext cx="1644120" cy="10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will we train staff and volunteer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aches (adults and peer educator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LFA and FIFA GOAL program – similar to MYSA and KF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ferees (adults and peer educator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LFA and FIFA GOAL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er educators – NSGA and FAW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rrigan and Kruse – Many peer education program lack ongoing support. Peer educators benefit from continued support, the opportunity to reflect on learning, and the opportunity to build net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bstantial initial investment followed by transfer of responsibilit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itoring and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ICULTIES WITH M&amp;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untability vs Development - Coal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 is benefiting from program evalu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purpose of M&amp;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tive vs Formative - OFF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outcome measurement is insufficient.  Can’t answer which sports and sports processes produce which outcomes for which sections of the populations in which circumstances - Patriks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itoring and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ory Based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mpts to assess the process. Not just beginning and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is the program supposed to wor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itoring and Evaluation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Coalter and sportanddev.org toolki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ipatory Monitoring and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seen by the M&amp;E committ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SA, MTGP-K, OY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organizations involve their members in M&amp;E this leads to (Coalter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building and sustainability (SCO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ater ownership, understanding, and integration (MYS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bility to reflect on and analyze attitudes, beliefs and behaviour (DFi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assault on hegemonic knowledge (Elabor-Idemud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6760" y="92880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ory based participatory monitoring and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ontent Placeholder 5" descr="problem_tree.gif"/>
          <p:cNvPicPr/>
          <p:nvPr/>
        </p:nvPicPr>
        <p:blipFill>
          <a:blip r:embed="rId1"/>
          <a:stretch/>
        </p:blipFill>
        <p:spPr>
          <a:xfrm>
            <a:off x="3673440" y="284040"/>
            <a:ext cx="4915080" cy="58294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13840" y="2356920"/>
            <a:ext cx="32511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 1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ke holders identify problem and collaboratively discuss the causes and solutions to this probl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lem T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based participatory monitoring and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2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the problem tree the project objectives/goals are cho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objectiv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llenge gender ro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ower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 social net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R awar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BV awar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based participatory monitoring and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3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activities that can address these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Activi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cer and other g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based participatory monitoring and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 4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keholders develop indicators for how the program will measure achievement of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 – Challenge Gender Ro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ity – Women’s soccer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ors – Perception of gender roles among participants,  Distribution and access to resources, Equal representation of women and men in leadership positions within the soccer program (coaches, referees, committe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based participatory monitoring and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 5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de on how to measure the indic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 6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de how to publish the results so stakeholder have an opportunity to review and provide feedb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s: Posters, flyers, newsletters, community meetings (through the soccer gam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vironmental Im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is our equipment coming f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environmental impact of shipping goods to Sierra Leo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- Participatory Developm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volvement by a local population to create and implement programs to improve their l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uilt on a belief that citizens can be trusted to shape their own fu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articipatory development uses local decision making and capacities to steer and define the nature of an interv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– Participatory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ipatory Development – From USAID study involving a variety of interven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ater upfront inves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out program overall costs average low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relevant and effective at addressing local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ins are more often sus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olvement of women and youth will improve their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sion Sta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our progr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lowchart: Process 6"/>
          <p:cNvSpPr/>
          <p:nvPr/>
        </p:nvSpPr>
        <p:spPr>
          <a:xfrm>
            <a:off x="3643200" y="2071800"/>
            <a:ext cx="1428840" cy="7858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xecu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lowchart: Process 7"/>
          <p:cNvSpPr/>
          <p:nvPr/>
        </p:nvSpPr>
        <p:spPr>
          <a:xfrm>
            <a:off x="2071800" y="3643200"/>
            <a:ext cx="1428480" cy="7858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lowchart: Process 8"/>
          <p:cNvSpPr/>
          <p:nvPr/>
        </p:nvSpPr>
        <p:spPr>
          <a:xfrm>
            <a:off x="500040" y="3643200"/>
            <a:ext cx="1428840" cy="7858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nitoring and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lowchart: Process 9"/>
          <p:cNvSpPr/>
          <p:nvPr/>
        </p:nvSpPr>
        <p:spPr>
          <a:xfrm>
            <a:off x="7215120" y="3643200"/>
            <a:ext cx="1428840" cy="7858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lowchart: Process 10"/>
          <p:cNvSpPr/>
          <p:nvPr/>
        </p:nvSpPr>
        <p:spPr>
          <a:xfrm>
            <a:off x="5572080" y="3643200"/>
            <a:ext cx="1428840" cy="7858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lowchart: Process 11"/>
          <p:cNvSpPr/>
          <p:nvPr/>
        </p:nvSpPr>
        <p:spPr>
          <a:xfrm>
            <a:off x="3714840" y="3643200"/>
            <a:ext cx="1428840" cy="7858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13"/>
          <p:cNvCxnSpPr>
            <a:stCxn id="59" idx="1"/>
            <a:endCxn id="61" idx="0"/>
          </p:cNvCxnSpPr>
          <p:nvPr/>
        </p:nvCxnSpPr>
        <p:spPr>
          <a:xfrm flipH="1">
            <a:off x="1213560" y="2463840"/>
            <a:ext cx="2429640" cy="1180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Straight Arrow Connector 15"/>
          <p:cNvCxnSpPr>
            <a:stCxn id="59" idx="3"/>
            <a:endCxn id="62" idx="0"/>
          </p:cNvCxnSpPr>
          <p:nvPr/>
        </p:nvCxnSpPr>
        <p:spPr>
          <a:xfrm>
            <a:off x="5072040" y="2463840"/>
            <a:ext cx="2858400" cy="1180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Straight Arrow Connector 17"/>
          <p:cNvCxnSpPr>
            <a:stCxn id="59" idx="2"/>
            <a:endCxn id="64" idx="0"/>
          </p:cNvCxnSpPr>
          <p:nvPr/>
        </p:nvCxnSpPr>
        <p:spPr>
          <a:xfrm>
            <a:off x="4357800" y="2857680"/>
            <a:ext cx="72000" cy="78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Straight Arrow Connector 19"/>
          <p:cNvCxnSpPr>
            <a:stCxn id="59" idx="2"/>
            <a:endCxn id="60" idx="0"/>
          </p:cNvCxnSpPr>
          <p:nvPr/>
        </p:nvCxnSpPr>
        <p:spPr>
          <a:xfrm flipH="1">
            <a:off x="2785680" y="2857680"/>
            <a:ext cx="1572480" cy="78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Straight Arrow Connector 21"/>
          <p:cNvCxnSpPr>
            <a:stCxn id="59" idx="2"/>
            <a:endCxn id="63" idx="0"/>
          </p:cNvCxnSpPr>
          <p:nvPr/>
        </p:nvCxnSpPr>
        <p:spPr>
          <a:xfrm>
            <a:off x="4357800" y="2857680"/>
            <a:ext cx="1929600" cy="78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our progr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POR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ccer teams (separate teams for boys and girl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bjectives – challenge gender roles, build social networks, and empower participan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verseen by the Sport Committe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YSA and MTGP – K as model organizations. Both started with soccer and then add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o-colonialism by displacing traditional gam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cholars counter that soccer is reinterpreted by different cultures. Demonstrated by how the sport is played and watched in various countri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ying traditional male games such as soccer can provide a more direct challenge to male power and wider socio-cultural relations…compared to ‘female’ games like netball - Saavedr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our progr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PO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un’ days – Segregated and Co-ed ga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jectives – challenge gender roles, build social networks, empower participants, and teach human righ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4P and Sugden advocated segregated programs because of culture.  However, F4P program not directly dealing with gender equa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eel that integrated games will offer opportunities to teach and discuss human righ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IV/AIDS programs more successful when ideas are taught through games as opposed to class room sessions – Kru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milar to F4P – Co-ed games can offer teachable mo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our progr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bjectives – Develop knowledge and awareness of GBV and HR, challenge gender roles, empowerment participants, and build social network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inked to Freir’s idea of developing a critical consciou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verseen by the Educational Committe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shops (segregated and integr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mes (segregated and integr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nect to other organizations working in the area of GBV and 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our progr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eer Educa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bjectives – Awareness of GBV and HR,  gender roles, empowerment, safe spac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s from MYSA, MTGP-K, OYAP, NSGA, FAW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unro – after food , water, shelter, health and education, nothing is more important for future development than providing good role models for our youth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erceived similarity to learn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Self efficacy expectancy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– belief that one is able to perform a behaviou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Outcome expectancy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– belief that behaviour can result in desired outcom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nefits of being a peer educator and people as an outcom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03:03:28Z</dcterms:created>
  <dc:creator>Valued Acer Customer</dc:creator>
  <dc:description/>
  <dc:language>en-US</dc:language>
  <cp:lastModifiedBy>Valued Acer Customer</cp:lastModifiedBy>
  <dcterms:modified xsi:type="dcterms:W3CDTF">2009-11-24T08:15:05Z</dcterms:modified>
  <cp:revision>37</cp:revision>
  <dc:subject/>
  <dc:title>Theory </dc:title>
</cp:coreProperties>
</file>