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D20D-4A17-49D7-A5AE-1A1481D433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03E5-2F50-4C79-97BD-EB7F9947AC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E9A0-8D76-4767-8D6C-6549C56050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E949-F406-49C0-ADEF-D2FBE3ED8A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ED24-C3FF-4E16-A880-B98E1AB73D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90BC-C01E-4374-BE5B-316CFA3CB4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7615-32D1-4118-B5EA-0E2EC53BC1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BDE9-835B-420E-A3BA-B4ECF92D6C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B7EA-57A5-4DA3-983A-B9115F1668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AD11-E692-4C26-982F-F7545809A9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6885-32A6-4B96-ACB8-13D36926B5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B19A-3618-4186-9D11-8CEA8AED58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y to prevent neo-colonial pract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0A8B-AB81-414B-B783-BA55F991A0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Four separate studies of particip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rogramming have found that su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ethods often cost less in the long r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nd are consistently more effective 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getting assistance where it needs to g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uch methods were also found to 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unmatched in fostering sustainabilit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trengthening local self-help capac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nd in improving the status of wo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nd youth. Finally, by establis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latforms where organizations m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ccess and involve citizens in the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rograms, participatory develop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ethods often extended the reach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traditional development approaches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leveraging local resources with na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nd foreign ass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6DC1-8197-4A7F-9E4F-31BBD93171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1BA5-D808-4731-907E-29862604D8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F0DB-A180-42D6-9887-E8CEDA91BD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98A9-407C-4793-8046-5966358FE6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723E-73FC-40D0-87B6-5B5EDF2BD8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7EF1-C3D3-4386-B779-A356236044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52D7-CCE1-45B5-B7B7-BFFF7E8877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D04F-1B00-4D4C-91A7-84839E6F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88CB-F4DB-445B-86D3-A5A68CE2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5DF6-41D9-4C3D-9562-073C3BFB2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E219-2F62-4BC1-8760-47EB67D8A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4376-911F-4249-A37A-7D49016E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D233-84A3-4D14-A4F2-33597A6E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4D30-D6FB-454C-9162-0EE6D380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9427-5AD2-4022-AC8C-5C82CE7E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20CB-C116-444D-9FA7-3B9F4FCC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03B8-F3A3-446F-803D-C7F1F308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35AF-31CD-4890-BD13-E9CE7AA4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86CA-612D-4F5A-B0FA-648FCEA9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B73A-0EB1-4C27-970A-58EA763674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cxnSp>
        <p:nvCxnSpPr>
          <p:cNvPr id="49" name="Straight Arrow Connector 10"/>
          <p:cNvCxnSpPr/>
          <p:nvPr/>
        </p:nvCxnSpPr>
        <p:spPr>
          <a:xfrm>
            <a:off x="2571480" y="2428920"/>
            <a:ext cx="32151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0" name="Straight Arrow Connector 12"/>
          <p:cNvCxnSpPr/>
          <p:nvPr/>
        </p:nvCxnSpPr>
        <p:spPr>
          <a:xfrm>
            <a:off x="5786280" y="928440"/>
            <a:ext cx="929520" cy="857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1" name="Straight Arrow Connector 14"/>
          <p:cNvCxnSpPr/>
          <p:nvPr/>
        </p:nvCxnSpPr>
        <p:spPr>
          <a:xfrm flipV="1">
            <a:off x="1213920" y="1071360"/>
            <a:ext cx="1644120" cy="10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will we train staff and volunteer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aches (adults and peer educator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LFA and FIFA GOAL program – similar to MYSA and KF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ferees (adults and peer educator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LFA and FIFA GOAL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eer educators – NSGA and FAW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rrigan and Kruse – Many peer education program lack ongoing support. Peer educators benefit from continued support, the opportunity to reflect on learning, and the opportunity to build net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bstantial initial investment followed by transfer of responsibilit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itoring and 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ICULTIES WITH M&amp;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ountability vs Development - Coal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 is benefiting from program evalu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purpose of M&amp;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tive vs Formative - OFF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e outcome measurement is insufficient.  Can’t answer which sports and sports processes produce which outcomes for which sections of the populations in which circumstances - Patriks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itoring and 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ory Based 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empts to assess the process. Not just beginning and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is the program supposed to wor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itoring and Evaluation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Coalter and sportanddev.org toolki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cipatory Monitoring and 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verseen by the M&amp;E committ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SA, MTGP-K, OYA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organizations involve their members in M&amp;E this leads to (Coalter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city building and sustainability (SCOR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eater ownership, understanding, and integration (MYS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ability to reflect on and analyze attitudes, beliefs and behaviour (DFi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assault on hegemonic knowledge (Elabor-Idemudi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56760" y="92880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ory based participatory monitoring and 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Content Placeholder 5" descr="problem_tree.gif"/>
          <p:cNvPicPr/>
          <p:nvPr/>
        </p:nvPicPr>
        <p:blipFill>
          <a:blip r:embed="rId1"/>
          <a:stretch/>
        </p:blipFill>
        <p:spPr>
          <a:xfrm>
            <a:off x="3673440" y="284040"/>
            <a:ext cx="4915080" cy="58294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13840" y="2356920"/>
            <a:ext cx="32511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EP 1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ke holders identify problem and collaboratively discuss the causes and solutions to this proble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blem Tr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ory based participatory monitoring and 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P 2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the problem tree the project objectives/goals are cho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r objectiv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llenge gender ro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ower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 social net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R aware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BV aware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ory based participatory monitoring and 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P 3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 activities that can address these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r Activit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cer and other g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ory based participatory monitoring and 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EP 4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keholders develop indicators for how the program will measure achievement of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jective – Challenge Gender Ro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ivity – Women’s soccer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cators – Perception of gender roles among participants,  Distribution and access to resources, Equal representation of women and men in leadership positions within the soccer program (coaches, referees, committe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ory based participatory monitoring and 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EP 5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ide on how to measure the indic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vi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EP 6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ide how to publish the results so stakeholder have an opportunity to review and provide feedba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s: Posters, flyers, newsletters, community meetings (through the soccer gam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vironmental Imp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is our equipment coming fr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environmental impact of shipping goods to Sierra Leo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ory - Participatory Developme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volvement by a local population to create and implement programs to improve their l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uilt on a belief that citizens can be trusted to shape their own fu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articipatory development uses local decision making and capacities to steer and define the nature of an interven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ory – Participatory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cipatory Development – From USAID study involving a variety of interven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eater upfront inves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oughout program overall costs average low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relevant and effective at addressing local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ins are more often sust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olvement of women and youth will improve their sta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sion Stat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our progra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lowchart: Process 6"/>
          <p:cNvSpPr/>
          <p:nvPr/>
        </p:nvSpPr>
        <p:spPr>
          <a:xfrm>
            <a:off x="3643200" y="2071800"/>
            <a:ext cx="1428840" cy="7858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xecu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lowchart: Process 7"/>
          <p:cNvSpPr/>
          <p:nvPr/>
        </p:nvSpPr>
        <p:spPr>
          <a:xfrm>
            <a:off x="2071800" y="3643200"/>
            <a:ext cx="1428480" cy="7858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lowchart: Process 8"/>
          <p:cNvSpPr/>
          <p:nvPr/>
        </p:nvSpPr>
        <p:spPr>
          <a:xfrm>
            <a:off x="500040" y="3643200"/>
            <a:ext cx="1428840" cy="7858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onitoring and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lowchart: Process 9"/>
          <p:cNvSpPr/>
          <p:nvPr/>
        </p:nvSpPr>
        <p:spPr>
          <a:xfrm>
            <a:off x="7215120" y="3643200"/>
            <a:ext cx="1428840" cy="7858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lowchart: Process 10"/>
          <p:cNvSpPr/>
          <p:nvPr/>
        </p:nvSpPr>
        <p:spPr>
          <a:xfrm>
            <a:off x="5572080" y="3643200"/>
            <a:ext cx="1428840" cy="7858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lowchart: Process 11"/>
          <p:cNvSpPr/>
          <p:nvPr/>
        </p:nvSpPr>
        <p:spPr>
          <a:xfrm>
            <a:off x="3714840" y="3643200"/>
            <a:ext cx="1428840" cy="7858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13"/>
          <p:cNvCxnSpPr>
            <a:stCxn id="59" idx="1"/>
            <a:endCxn id="61" idx="0"/>
          </p:cNvCxnSpPr>
          <p:nvPr/>
        </p:nvCxnSpPr>
        <p:spPr>
          <a:xfrm flipH="1">
            <a:off x="1213560" y="2463840"/>
            <a:ext cx="2429640" cy="1180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Straight Arrow Connector 15"/>
          <p:cNvCxnSpPr>
            <a:stCxn id="59" idx="3"/>
            <a:endCxn id="62" idx="0"/>
          </p:cNvCxnSpPr>
          <p:nvPr/>
        </p:nvCxnSpPr>
        <p:spPr>
          <a:xfrm>
            <a:off x="5072040" y="2463840"/>
            <a:ext cx="2858400" cy="1180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Straight Arrow Connector 17"/>
          <p:cNvCxnSpPr>
            <a:stCxn id="59" idx="2"/>
            <a:endCxn id="64" idx="0"/>
          </p:cNvCxnSpPr>
          <p:nvPr/>
        </p:nvCxnSpPr>
        <p:spPr>
          <a:xfrm>
            <a:off x="4357800" y="2857680"/>
            <a:ext cx="72000" cy="786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Straight Arrow Connector 19"/>
          <p:cNvCxnSpPr>
            <a:stCxn id="59" idx="2"/>
            <a:endCxn id="60" idx="0"/>
          </p:cNvCxnSpPr>
          <p:nvPr/>
        </p:nvCxnSpPr>
        <p:spPr>
          <a:xfrm flipH="1">
            <a:off x="2785680" y="2857680"/>
            <a:ext cx="1572480" cy="786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Straight Arrow Connector 21"/>
          <p:cNvCxnSpPr>
            <a:stCxn id="59" idx="2"/>
            <a:endCxn id="63" idx="0"/>
          </p:cNvCxnSpPr>
          <p:nvPr/>
        </p:nvCxnSpPr>
        <p:spPr>
          <a:xfrm>
            <a:off x="4357800" y="2857680"/>
            <a:ext cx="1929600" cy="786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our progra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POR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occer teams (separate teams for boys and girl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bjectives – challenge gender roles, build social networks, and empower participan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verseen by the Sport Committe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YSA and MTGP – K as model organizations. Both started with soccer and then adde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o-colonialism by displacing traditional game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cholars counter that soccer is reinterpreted by different cultures. Demonstrated by how the sport is played and watched in various countri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ying traditional male games such as soccer can provide a more direct challenge to male power and wider socio-cultural relations…compared to ‘female’ games like netball - Saavedr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our progra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PO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un’ days – Segregated and Co-ed gam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bjectives – challenge gender roles, build social networks, empower participants, and teach human righ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4P and Sugden advocated segregated programs because of culture.  However, F4P program not directly dealing with gender equa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eel that integrated games will offer opportunities to teach and discuss human righ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IV/AIDS programs more successful when ideas are taught through games as opposed to class room sessions – Kru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milar to F4P – Co-ed games can offer teachable mo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our progra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bjectives – Develop knowledge and awareness of GBV and HR, challenge gender roles, empowerment participants, and build social network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inked to Freir’s idea of developing a critical consciou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verseen by the Educational Committe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shops (segregated and integr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mes (segregated and integr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nect to other organizations working in the area of GBV and 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our progra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eer Educato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bjectives – Awareness of GBV and HR,  gender roles, empowerment, safe spac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s from MYSA, MTGP-K, OYAP, NSGA, FAW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unro – after food , water, shelter, health and education, nothing is more important for future development than providing good role models for our youth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erceived similarity to learn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Self efficacy expectancy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– belief that one is able to perform a behaviou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Outcome expectancy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– belief that behaviour can result in desired outcom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nefits of being a peer educator and people as an outcom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03:03:28Z</dcterms:created>
  <dc:creator>Valued Acer Customer</dc:creator>
  <dc:description/>
  <dc:language>en-US</dc:language>
  <cp:lastModifiedBy>Valued Acer Customer</cp:lastModifiedBy>
  <dcterms:modified xsi:type="dcterms:W3CDTF">2009-11-24T08:15:05Z</dcterms:modified>
  <cp:revision>37</cp:revision>
  <dc:subject/>
  <dc:title>Theory </dc:title>
</cp:coreProperties>
</file>