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9AA-8D02-4F46-82B1-E3C0341A3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155C-3C2D-4FB3-8A78-A42460371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62A9-623F-4E8C-925B-7ED672037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796-791E-453C-BB8C-D3D29B8AB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6429-7709-4F86-9277-2154DE3CD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D3FC-56D1-4988-9402-5C5F95534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9FA6-1692-43E4-8F16-BBA2931E8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85A2-8FE3-4A64-ABC0-AE090E619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8C3-69E0-4237-A67B-86E926E7A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5B23-8B64-4C5F-ABD3-D71A363E6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7990-6236-42AE-92F6-71A78BD93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4FCC-C25C-43E0-B9D1-76B69AD1A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to prevent neo-colonial prac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AB74-F2CA-4706-9DF7-4FD672603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separate studies of particip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ming have found that s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cost less in the long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are consistently more effective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getting assistance where it needs to 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ch methods were also found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unmatched in fostering sustainabil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ngthening local self-help capa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in improving the status of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youth. Finally, by establi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tforms where organizations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cess and involve citizens in the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s, participatory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extended the reac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raditional development approaches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veraging local resources with 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foreign ass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57D-202E-4243-832C-FC2C80542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59A5-055A-4066-9A82-893633883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AB6-4429-4CCB-93F5-934196B74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E22B-0E71-48F6-AFAD-2AF6D27E2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BE05-4CBC-4131-90CF-3BA107700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AEB-5E42-4F27-8072-05F6C04CE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03B9-E565-45EA-AB2C-62A9856AA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736-3773-45E0-9CB1-B9574202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D1D-8D01-4947-B6D7-B0AACE75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005-88CD-49E2-A2BF-BF362170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CA8-2B28-4276-8FAE-F1D1C90D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93A-05E1-467E-9B0B-FAA8925D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CF5-28E7-4D33-9FAE-481AC0B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33D-A110-4524-B6E5-FC5BB9B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B9C-D44E-4DE8-A495-1A1E2D85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4A0-91ED-44D2-8AA8-8BD61177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F6A-7687-47C5-9B3D-964CE31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BC2-6C1B-4B83-92EC-F68A626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EF1-2C16-4A22-9362-8E97332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69D6-5AE4-4046-B394-089C3D778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10"/>
          <p:cNvCxnSpPr/>
          <p:nvPr/>
        </p:nvCxnSpPr>
        <p:spPr>
          <a:xfrm>
            <a:off x="2571480" y="2428920"/>
            <a:ext cx="3215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Straight Arrow Connector 12"/>
          <p:cNvCxnSpPr/>
          <p:nvPr/>
        </p:nvCxnSpPr>
        <p:spPr>
          <a:xfrm>
            <a:off x="5786280" y="928440"/>
            <a:ext cx="9295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" name="Straight Arrow Connector 14"/>
          <p:cNvCxnSpPr/>
          <p:nvPr/>
        </p:nvCxnSpPr>
        <p:spPr>
          <a:xfrm flipV="1">
            <a:off x="1213920" y="1071360"/>
            <a:ext cx="164412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we train staff and volunte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ach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 – similar to MYSA and K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ere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er educators – NSGA and FAW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rrigan and Kruse – Many peer education program lack ongoing support. Peer educators benefit from continued support, the opportunity to reflect on learning, and the opportunity to build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stantial initial investment followed by transfer of responsibil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IES WITH M&amp;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 vs Development - Coa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benefiting from program evalu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purpose of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tive vs Formative - 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outcome measurement is insufficient.  Can’t answer which sports and sports processes produce which outcomes for which sections of the populations in which circumstances - Patrik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Base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assess the process. Not just beginning and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the program supposed to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alter and sportanddev.org toolk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seen by the M&amp;E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SA, MTGP-K, OY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rganizations involve their members in M&amp;E this leads to (Coalte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building and sustainability (SCO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ownership, understanding, and integration (MY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ility to reflect on and analyze attitudes, beliefs and behaviour (DF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assault on hegemonic knowledge (Elabor-Idemu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6760" y="92880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5" descr="problem_tree.gif"/>
          <p:cNvPicPr/>
          <p:nvPr/>
        </p:nvPicPr>
        <p:blipFill>
          <a:blip r:embed="rId1"/>
          <a:stretch/>
        </p:blipFill>
        <p:spPr>
          <a:xfrm>
            <a:off x="3673440" y="284040"/>
            <a:ext cx="4915080" cy="5829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840" y="2356920"/>
            <a:ext cx="3251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 holders identify problem and collaboratively discuss the causes and solutions to this probl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problem tree the project objectives/goals are cho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social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V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ctivities that can address these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cer and other g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4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 develop indicators for how the program will measure achievement of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 – 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– Women’s socce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 – Perception of gender roles among participants,  Distribution and access to resources, Equal representation of women and men in leadership positions within the soccer program (coaches, referees, committ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5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on how to measure the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6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how to publish the results so stakeholder have an opportunity to review and provide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Posters, flyers, newsletters, community meetings (through the soccer g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our equipment coming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nvironmental impact of shipping goods to Sierra Le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- Participatory Develop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olvement by a local population to create and implement programs to improve their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uilt on a belief that citizens can be trusted to shape their own fu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ticipatory development uses local decision making and capacities to steer and define the nature of an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– Participatory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Development – From USAID study involving a variety of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upfront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out program overall costs average 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levant and effective at addressing local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 are more often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ment of women and youth will improve thei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owchart: Process 6"/>
          <p:cNvSpPr/>
          <p:nvPr/>
        </p:nvSpPr>
        <p:spPr>
          <a:xfrm>
            <a:off x="3643200" y="20718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Process 7"/>
          <p:cNvSpPr/>
          <p:nvPr/>
        </p:nvSpPr>
        <p:spPr>
          <a:xfrm>
            <a:off x="2071800" y="3643200"/>
            <a:ext cx="142848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Process 8"/>
          <p:cNvSpPr/>
          <p:nvPr/>
        </p:nvSpPr>
        <p:spPr>
          <a:xfrm>
            <a:off x="5000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itoring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Process 9"/>
          <p:cNvSpPr/>
          <p:nvPr/>
        </p:nvSpPr>
        <p:spPr>
          <a:xfrm>
            <a:off x="721512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Process 10"/>
          <p:cNvSpPr/>
          <p:nvPr/>
        </p:nvSpPr>
        <p:spPr>
          <a:xfrm>
            <a:off x="557208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Process 11"/>
          <p:cNvSpPr/>
          <p:nvPr/>
        </p:nvSpPr>
        <p:spPr>
          <a:xfrm>
            <a:off x="37148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3"/>
          <p:cNvCxnSpPr>
            <a:stCxn id="59" idx="1"/>
            <a:endCxn id="61" idx="0"/>
          </p:cNvCxnSpPr>
          <p:nvPr/>
        </p:nvCxnSpPr>
        <p:spPr>
          <a:xfrm flipH="1">
            <a:off x="1213560" y="2463840"/>
            <a:ext cx="242964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>
            <a:stCxn id="59" idx="3"/>
            <a:endCxn id="62" idx="0"/>
          </p:cNvCxnSpPr>
          <p:nvPr/>
        </p:nvCxnSpPr>
        <p:spPr>
          <a:xfrm>
            <a:off x="5072040" y="2463840"/>
            <a:ext cx="285840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17"/>
          <p:cNvCxnSpPr>
            <a:stCxn id="59" idx="2"/>
            <a:endCxn id="64" idx="0"/>
          </p:cNvCxnSpPr>
          <p:nvPr/>
        </p:nvCxnSpPr>
        <p:spPr>
          <a:xfrm>
            <a:off x="4357800" y="285768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19"/>
          <p:cNvCxnSpPr>
            <a:stCxn id="59" idx="2"/>
            <a:endCxn id="60" idx="0"/>
          </p:cNvCxnSpPr>
          <p:nvPr/>
        </p:nvCxnSpPr>
        <p:spPr>
          <a:xfrm flipH="1">
            <a:off x="2785680" y="2857680"/>
            <a:ext cx="157248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1"/>
          <p:cNvCxnSpPr>
            <a:stCxn id="59" idx="2"/>
            <a:endCxn id="63" idx="0"/>
          </p:cNvCxnSpPr>
          <p:nvPr/>
        </p:nvCxnSpPr>
        <p:spPr>
          <a:xfrm>
            <a:off x="4357800" y="2857680"/>
            <a:ext cx="19296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ccer teams (separate teams for boys and girl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and empower participa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verseen by the Sport Committ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YSA and MTGP – K as model organizations. Both started with soccer and then ad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o-colonialism by displacing traditional gam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cholars counter that soccer is reinterpreted by different cultures. Demonstrated by how the sport is played and watched in various countr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ying traditional male games such as soccer can provide a more direct challenge to male power and wider socio-cultural relations…compared to ‘female’ games like netball - Saavedr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’ days – Segregated and Co-ed g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empower participants, and teach human righ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4P and Sugden advocated segregated programs because of culture.  However, F4P program not directly dealing with gender 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el that integrated games will offer opportunities to teach and discuss human righ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V/AIDS programs more successful when ideas are taught through games as opposed to class room sessions – Kr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F4P – Co-ed games can offer teachable mo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bjectives – Develop knowledge and awareness of GBV and HR, challenge gender roles, empowerment participants, and build social netwo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nked to Freir’s idea of developing a critical conscio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seen by the Educational Committ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 to other organizations working in the area of GBV and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er Educa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ives – Awareness of GBV and HR,  gender roles, empowerment, safe spa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s from MYSA, MTGP-K, OYAP, NSGA, FAW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nro – after food , water, shelter, health and education, nothing is more important for future development than providing good role models for our you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rceived similarity to lear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elf efficacy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one is able to perform a behavio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utcome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behaviour can result in desired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nefits of being a peer educator and people as an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03:28Z</dcterms:created>
  <dc:creator>Valued Acer Customer</dc:creator>
  <dc:description/>
  <dc:language>en-US</dc:language>
  <cp:lastModifiedBy>Valued Acer Customer</cp:lastModifiedBy>
  <dcterms:modified xsi:type="dcterms:W3CDTF">2009-11-24T08:15:05Z</dcterms:modified>
  <cp:revision>37</cp:revision>
  <dc:subject/>
  <dc:title>Theory </dc:title>
</cp:coreProperties>
</file>