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EDA8-3BD2-40F7-9BC1-818559EBC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E3C2-F7BF-4722-963A-8F3D88942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A268-0FA5-4A74-A503-A3ACE16F5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13A9-F1D8-4E13-94E0-C4A8EC81B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80DF-D57D-4140-B80E-0CE3FD1A3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0D49-B71B-415B-801F-B2C28C88D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4514-0B26-4F50-85AC-A231B02BF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F173-DB17-45BF-98EB-D7ACD44A7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7AF5-95B9-4644-8F93-940081AED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9D4A-FE02-4403-B23D-59345E2CC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7998-9A33-487B-BF87-198BCBFD0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0926-3D87-4C03-9016-80B693BE0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to prevent neo-colonial prac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E807-F1B6-41A3-B7FC-62805A810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r separate studies of particip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rogramming have found that s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ethods often cost less in the long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are consistently more effective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getting assistance where it needs to 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ch methods were also found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unmatched in fostering sustainabili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rengthening local self-help capa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in improving the status of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youth. Finally, by establi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tforms where organizations m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cess and involve citizens in the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rograms, participatory develo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ethods often extended the reac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raditional development approaches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veraging local resources with n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d foreign ass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3B98-4E30-4A33-B652-FBFAFB4BA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54AA-D767-449A-8C49-E575F6BDF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F5B2-2A98-4C20-86D3-B356FDA10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47A7-A5D0-49F5-AECC-FFDCF6333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0CA5-5FF4-4A64-84D2-295DA9294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B2B5-7AED-40FF-981C-D7540C407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FF26-0450-4926-806E-36D2E391F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23A-73D1-445D-A772-0CFF38ED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B44-EDE5-42BE-9B40-32DBBA17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88A-B46F-4F5F-B415-CD776F22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D5A-7578-403F-8B4C-80E77022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AFE-CAB4-4A06-9ABF-EC64D905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E04-79CA-4688-B227-BA93D36B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2D7-3FEE-4B8E-89EA-BCC59B70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DFF-428A-4DC1-8AE7-8B5260B3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DCD-79A7-4C28-B46A-52E0D840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CEA-C992-415F-85E8-B13906D6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0E7-0A24-4CBB-AE1E-1617CB8C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F92-0FBB-4B43-9028-A8ABCAF8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547B-A30F-4294-8B47-FF18E67FE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cxnSp>
        <p:nvCxnSpPr>
          <p:cNvPr id="49" name="Straight Arrow Connector 10"/>
          <p:cNvCxnSpPr/>
          <p:nvPr/>
        </p:nvCxnSpPr>
        <p:spPr>
          <a:xfrm>
            <a:off x="2571480" y="2428920"/>
            <a:ext cx="3215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0" name="Straight Arrow Connector 12"/>
          <p:cNvCxnSpPr/>
          <p:nvPr/>
        </p:nvCxnSpPr>
        <p:spPr>
          <a:xfrm>
            <a:off x="5786280" y="928440"/>
            <a:ext cx="9295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1" name="Straight Arrow Connector 14"/>
          <p:cNvCxnSpPr/>
          <p:nvPr/>
        </p:nvCxnSpPr>
        <p:spPr>
          <a:xfrm flipV="1">
            <a:off x="1213920" y="1071360"/>
            <a:ext cx="164412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will we train staff and voluntee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aches (adults and peer educato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FA and FIFA GOAL program – similar to MYSA and KF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erees (adults and peer educato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FA and FIFA GOAL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er educators – NSGA and FAW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rrigan and Kruse – Many peer education program lack ongoing support. Peer educators benefit from continued support, the opportunity to reflect on learning, and the opportunity to build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stantial initial investment followed by transfer of responsibil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ICULTIES WITH M&amp;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ility vs Development - Coa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is benefiting from program evalu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purpose of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tive vs Formative - O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outcome measurement is insufficient.  Can’t answer which sports and sports processes produce which outcomes for which sections of the populations in which circumstances - Patrik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Base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assess the process. Not just beginning and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the program supposed to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alter and sportanddev.org toolki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ory 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seen by the M&amp;E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SA, MTGP-K, OY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organizations involve their members in M&amp;E this leads to (Coalter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building and sustainability (SCO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r ownership, understanding, and integration (MY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bility to reflect on and analyze attitudes, beliefs and behaviour (DF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assault on hegemonic knowledge (Elabor-Idemud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6760" y="92880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5" descr="problem_tree.gif"/>
          <p:cNvPicPr/>
          <p:nvPr/>
        </p:nvPicPr>
        <p:blipFill>
          <a:blip r:embed="rId1"/>
          <a:stretch/>
        </p:blipFill>
        <p:spPr>
          <a:xfrm>
            <a:off x="3673440" y="284040"/>
            <a:ext cx="4915080" cy="5829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840" y="2356920"/>
            <a:ext cx="3251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 holders identify problem and collaboratively discuss the causes and solutions to this probl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2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problem tree the project objectives/goals are cho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objec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 gender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social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R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V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3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ctivities that can address these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Activ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cer and other g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4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s develop indicators for how the program will measure achievement of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 – Challenge Gender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– Women’s socce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 – Perception of gender roles among participants,  Distribution and access to resources, Equal representation of women and men in leadership positions within the soccer program (coaches, referees, committ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based participatory 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5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on how to measure the indic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6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how to publish the results so stakeholder have an opportunity to review and provide feed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 Posters, flyers, newsletters, community meetings (through the soccer ga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our equipment coming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nvironmental impact of shipping goods to Sierra Leo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- Participatory Develop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olvement by a local population to create and implement programs to improve their l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uilt on a belief that citizens can be trusted to shape their own fu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ticipatory development uses local decision making and capacities to steer and define the nature of an 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– Participatory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ory Development – From USAID study involving a variety of inter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upfront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out program overall costs average l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elevant and effective at addressing local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s are more often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ment of women and youth will improve their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ion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lowchart: Process 6"/>
          <p:cNvSpPr/>
          <p:nvPr/>
        </p:nvSpPr>
        <p:spPr>
          <a:xfrm>
            <a:off x="3643200" y="20718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lowchart: Process 7"/>
          <p:cNvSpPr/>
          <p:nvPr/>
        </p:nvSpPr>
        <p:spPr>
          <a:xfrm>
            <a:off x="2071800" y="3643200"/>
            <a:ext cx="142848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Process 8"/>
          <p:cNvSpPr/>
          <p:nvPr/>
        </p:nvSpPr>
        <p:spPr>
          <a:xfrm>
            <a:off x="50004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nitoring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owchart: Process 9"/>
          <p:cNvSpPr/>
          <p:nvPr/>
        </p:nvSpPr>
        <p:spPr>
          <a:xfrm>
            <a:off x="721512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lowchart: Process 10"/>
          <p:cNvSpPr/>
          <p:nvPr/>
        </p:nvSpPr>
        <p:spPr>
          <a:xfrm>
            <a:off x="557208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Process 11"/>
          <p:cNvSpPr/>
          <p:nvPr/>
        </p:nvSpPr>
        <p:spPr>
          <a:xfrm>
            <a:off x="3714840" y="3643200"/>
            <a:ext cx="14288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3"/>
          <p:cNvCxnSpPr>
            <a:stCxn id="59" idx="1"/>
            <a:endCxn id="61" idx="0"/>
          </p:cNvCxnSpPr>
          <p:nvPr/>
        </p:nvCxnSpPr>
        <p:spPr>
          <a:xfrm flipH="1">
            <a:off x="1213560" y="2463840"/>
            <a:ext cx="2429640" cy="11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>
            <a:stCxn id="59" idx="3"/>
            <a:endCxn id="62" idx="0"/>
          </p:cNvCxnSpPr>
          <p:nvPr/>
        </p:nvCxnSpPr>
        <p:spPr>
          <a:xfrm>
            <a:off x="5072040" y="2463840"/>
            <a:ext cx="2858400" cy="11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17"/>
          <p:cNvCxnSpPr>
            <a:stCxn id="59" idx="2"/>
            <a:endCxn id="64" idx="0"/>
          </p:cNvCxnSpPr>
          <p:nvPr/>
        </p:nvCxnSpPr>
        <p:spPr>
          <a:xfrm>
            <a:off x="4357800" y="2857680"/>
            <a:ext cx="720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19"/>
          <p:cNvCxnSpPr>
            <a:stCxn id="59" idx="2"/>
            <a:endCxn id="60" idx="0"/>
          </p:cNvCxnSpPr>
          <p:nvPr/>
        </p:nvCxnSpPr>
        <p:spPr>
          <a:xfrm flipH="1">
            <a:off x="2785680" y="2857680"/>
            <a:ext cx="157248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21"/>
          <p:cNvCxnSpPr>
            <a:stCxn id="59" idx="2"/>
            <a:endCxn id="63" idx="0"/>
          </p:cNvCxnSpPr>
          <p:nvPr/>
        </p:nvCxnSpPr>
        <p:spPr>
          <a:xfrm>
            <a:off x="4357800" y="2857680"/>
            <a:ext cx="19296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ccer teams (separate teams for boys and girl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bjectives – challenge gender roles, build social networks, and empower participa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verseen by the Sport Committe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YSA and MTGP – K as model organizations. Both started with soccer and then add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o-colonialism by displacing traditional gam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cholars counter that soccer is reinterpreted by different cultures. Demonstrated by how the sport is played and watched in various countr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ying traditional male games such as soccer can provide a more direct challenge to male power and wider socio-cultural relations…compared to ‘female’ games like netball - Saavedr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’ days – Segregated and Co-ed ga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s – challenge gender roles, build social networks, empower participants, and teach human righ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4P and Sugden advocated segregated programs because of culture.  However, F4P program not directly dealing with gender e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el that integrated games will offer opportunities to teach and discuss human righ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V/AIDS programs more successful when ideas are taught through games as opposed to class room sessions – Kr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F4P – Co-ed games can offer teachable mo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bjectives – Develop knowledge and awareness of GBV and HR, challenge gender roles, empowerment participants, and build social networ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inked to Freir’s idea of developing a critical consciou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seen by the Educational Committ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s (segregated and integr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mes (segregated and integr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 to other organizations working in the area of GBV and 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ur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er Educa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ives – Awareness of GBV and HR,  gender roles, empowerment, safe spac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s from MYSA, MTGP-K, OYAP, NSGA, FAW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nro – after food , water, shelter, health and education, nothing is more important for future development than providing good role models for our you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rceived similarity to lear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Self efficacy expectancy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– belief that one is able to perform a behaviou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Outcome expectancy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– belief that behaviour can result in desired outc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nefits of being a peer educator and people as an outc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3:03:28Z</dcterms:created>
  <dc:creator>Valued Acer Customer</dc:creator>
  <dc:description/>
  <dc:language>en-US</dc:language>
  <cp:lastModifiedBy>Valued Acer Customer</cp:lastModifiedBy>
  <dcterms:modified xsi:type="dcterms:W3CDTF">2009-11-24T08:15:05Z</dcterms:modified>
  <cp:revision>37</cp:revision>
  <dc:subject/>
  <dc:title>Theory </dc:title>
</cp:coreProperties>
</file>